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C13-DB46-4B98-853F-A10173DE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886-E6B1-4BF1-8F3A-763EBAE6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AC5-85F1-4BC2-A8DE-A61FDB58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132-E8C9-40DB-B176-048A1B1C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698-05EE-4608-843C-DE650A1A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945-DC62-47C3-8165-62E04CDE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C0E-6A69-465D-8032-7631B289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700-93AA-4DE5-9D0B-88A763A8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348-D6CC-430E-AFB5-8B81CCEA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7CA-3366-44C1-BBF5-1C8D664B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151-08C7-4786-8D9A-107515AD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C65-9D0D-41D9-80F5-67C0ED21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AADB-7E72-4A1E-A2D5-D2EA365E2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Alternative to Lord’s Prayer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arth-maker, Pain-b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e-ma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urce of all that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at shall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 and Mother of us a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ing God, in whom is heav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allowing of your name ec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univer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ay of your jus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foll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peoples of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eavenly will b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created be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monwealth of pe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stain our h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e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bread we need for tod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e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hurts we abso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ne ano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imes of temptation and t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rials too great to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par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he grip of all that is ev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e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reign in the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power that is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57:47Z</dcterms:created>
  <dc:creator>Anon Anon</dc:creator>
  <dc:description/>
  <dc:language>en-US</dc:language>
  <cp:lastModifiedBy>Anon Anon</cp:lastModifiedBy>
  <dcterms:modified xsi:type="dcterms:W3CDTF">2005-08-09T05:42:05Z</dcterms:modified>
  <cp:revision>10</cp:revision>
  <dc:subject/>
  <dc:title>Alternative to Lord’s Prayer (SLD-2)</dc:title>
</cp:coreProperties>
</file>